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CA2B-C814-4626-9EE2-C844FBC5B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5E5E-1E74-486A-9375-371A5173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469F-44E5-4F2D-8A26-F6718F3F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D593-FB25-4EF9-A7EF-8853F56D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77F2-383C-4715-8D37-F91F4A63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336A-6766-4F98-9E76-BD84A0B0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44C6-6525-465C-9EEC-36FE9A69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E1CA-EA02-41A7-A4CA-FFCA95BA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D46A-BF6C-4B7E-8F1D-C7E361A2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6422-C971-41AE-9ACD-C37A23F9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9A66-4088-49E2-B101-845D777E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AF60-C57A-4E47-B5FA-ACB1F90E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45CA-DEDA-461C-925F-9FD3788D0D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octobre%202005/TabOrientation.doc" TargetMode="External"/><Relationship Id="rId2" Type="http://schemas.openxmlformats.org/officeDocument/2006/relationships/hyperlink" Target="file:///octobre%202005/Saccades.doc" TargetMode="External"/><Relationship Id="rId3" Type="http://schemas.openxmlformats.org/officeDocument/2006/relationships/hyperlink" Target="file:///octobre%202005/Vergence.doc" TargetMode="External"/><Relationship Id="rId4" Type="http://schemas.openxmlformats.org/officeDocument/2006/relationships/hyperlink" Target="file:///octobre%202005/Poursuite.doc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octobre%202005/pages%20techniques.doc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octobre%202005/ApplicationsM&#233;dicales.doc" TargetMode="External"/><Relationship Id="rId2" Type="http://schemas.openxmlformats.org/officeDocument/2006/relationships/hyperlink" Target="file:///octobre%202005/ApplicationsNonM&#233;dicales.doc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octobre%202005/pathologies_akin&#233;topsie.doc" TargetMode="External"/><Relationship Id="rId2" Type="http://schemas.openxmlformats.org/officeDocument/2006/relationships/hyperlink" Target="file:///octobre%202005/oscillopsie.doc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00"/>
                </a:solidFill>
                <a:latin typeface="Arial"/>
              </a:rPr>
              <a:t>MOUVEMENT et VI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00360" y="2314440"/>
            <a:ext cx="4038480" cy="34419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distingue deux grands types de mouvements oculai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Les mouvements de stabilisation de l’im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335772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Ils permettent de fixer l’image sur une cible lorsque la tête bou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Il s’agit des mouvements optocinétiques et des mouvements vestibulo-oculai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2.Les </a:t>
            </a:r>
            <a:r>
              <a:rPr b="0" lang="en-US" sz="40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mouvements d’orientation </a:t>
            </a:r>
            <a:r>
              <a:rPr b="0" lang="en-US" sz="4000" spc="-1" strike="noStrike" u="sng">
                <a:solidFill>
                  <a:srgbClr val="660066"/>
                </a:solidFill>
                <a:uFillTx/>
                <a:latin typeface="Arial"/>
              </a:rPr>
              <a:t>du regar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s ont pour objectif de garder la fovéa sur une cible même lorsque celle-ci se dé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 s’agit des mouveme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de sacc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de verg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4"/>
              </a:rPr>
              <a:t>de poursu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lques manipulations simples permettent d’aborder en classe les mouvements oculai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29600" cy="33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flexe vestibulo-oculai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acc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Verg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s mouvements oculaires nécessitent la mise en jeu de voies nerveuses et de muscles oculomoteur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1471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ujourd’hui, la vision est l’objet de recherches d’un grand nombre d’équipes pluridisciplinaire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5640" y="5157360"/>
            <a:ext cx="73515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ela nécessite la mise au point de </a:t>
            </a: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techniques d’enregist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348000" y="2565360"/>
            <a:ext cx="3102120" cy="2325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68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68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68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68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 nombreuses applications en découlent 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42920" y="170028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Médic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2205000"/>
            <a:ext cx="35956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Non médic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403280" y="3429000"/>
            <a:ext cx="2448000" cy="2160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076720" y="3429000"/>
            <a:ext cx="2303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Des pathologies affectent la perception du mouvement et/ou les mouvements du regar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364464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Akinétops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Oscillops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plopie/Strabis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08:30:12Z</dcterms:created>
  <dc:creator>ternaux</dc:creator>
  <dc:description/>
  <dc:language>en-US</dc:language>
  <cp:lastModifiedBy>ternaux</cp:lastModifiedBy>
  <dcterms:modified xsi:type="dcterms:W3CDTF">2005-11-04T16:32:01Z</dcterms:modified>
  <cp:revision>50</cp:revision>
  <dc:subject/>
  <dc:title>LE MOUVEMENT DU REGARD</dc:title>
</cp:coreProperties>
</file>